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8.jpeg" ContentType="image/jpeg"/>
  <Override PartName="/ppt/media/image10.jpeg" ContentType="image/jpeg"/>
  <Override PartName="/ppt/media/image9.png" ContentType="image/png"/>
  <Override PartName="/ppt/media/image6.png" ContentType="image/png"/>
  <Override PartName="/ppt/media/image29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32.png" ContentType="image/png"/>
  <Override PartName="/ppt/media/image1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4.jpeg" ContentType="image/jpe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82454-FDB5-4D5E-9058-324BA6D3BE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158EC-EBF8-4934-A6C2-1559861681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94321-5985-4CC9-97E0-0579B1B0C0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07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5280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6E75-4B85-4A03-927E-58DB4CF1D4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5BC56-7F14-41BF-ADE4-6AFEAE6CCA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E8EBB-5166-438C-9816-19FD15F116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E6885-C2C3-474A-85D2-0DE3893157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1EA1B-778E-46B2-BCF0-86168879D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96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E9D9-4259-464A-B8A6-8B35B6FEC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5B45E-9655-4CC2-91C1-2FFE5B7A2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5280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5175-81C3-456D-A166-9EC1FD9970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07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5280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3100-97B3-4AE9-9824-A9B1D4E9E7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marL="3826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112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10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82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954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359480" y="6248160"/>
            <a:ext cx="2923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4CF8-1675-47B6-924F-C1D570F5F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227160"/>
            <a:ext cx="914400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TARFISH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DISSEC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" name="Picture 2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617560" cy="356544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3"/>
          <p:cNvSpPr/>
          <p:nvPr/>
        </p:nvSpPr>
        <p:spPr>
          <a:xfrm>
            <a:off x="4107600" y="6369840"/>
            <a:ext cx="467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.emerchandise.com/images/p/SBS/pdPASBS0005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rcRect l="0" t="0" r="40744" b="15233"/>
          <a:stretch/>
        </p:blipFill>
        <p:spPr>
          <a:xfrm>
            <a:off x="1066680" y="2209680"/>
            <a:ext cx="5867640" cy="42181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KIN GIL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Hollow skin tubes that project from skin for increased surface area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onnect to coelom in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7382880" y="6324480"/>
            <a:ext cx="1271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Image by Ried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kin gills between spin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 Bold"/>
              <a:ea typeface="ヒラギノ明朝 ProN W6"/>
            </a:endParaRPr>
          </a:p>
        </p:txBody>
      </p:sp>
      <p:grpSp>
        <p:nvGrpSpPr>
          <p:cNvPr id="82" name="Group 3"/>
          <p:cNvGrpSpPr/>
          <p:nvPr/>
        </p:nvGrpSpPr>
        <p:grpSpPr>
          <a:xfrm>
            <a:off x="38160" y="977760"/>
            <a:ext cx="9144000" cy="5738760"/>
            <a:chOff x="38160" y="977760"/>
            <a:chExt cx="9144000" cy="5738760"/>
          </a:xfrm>
        </p:grpSpPr>
        <p:sp>
          <p:nvSpPr>
            <p:cNvPr id="83" name="Rectangle 4"/>
            <p:cNvSpPr/>
            <p:nvPr/>
          </p:nvSpPr>
          <p:spPr>
            <a:xfrm>
              <a:off x="38160" y="977760"/>
              <a:ext cx="9144000" cy="57387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Picture 5" descr=""/>
            <p:cNvPicPr/>
            <p:nvPr/>
          </p:nvPicPr>
          <p:blipFill>
            <a:blip r:embed="rId1"/>
            <a:stretch/>
          </p:blipFill>
          <p:spPr>
            <a:xfrm>
              <a:off x="38160" y="977760"/>
              <a:ext cx="9144000" cy="57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Rectangle 6"/>
          <p:cNvSpPr/>
          <p:nvPr/>
        </p:nvSpPr>
        <p:spPr>
          <a:xfrm>
            <a:off x="1307880" y="5181480"/>
            <a:ext cx="6585480" cy="109764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EXCHANGE GASES 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 Bold"/>
                <a:ea typeface="Times New Roman Bold"/>
              </a:rPr>
              <a:t>EXCRETE NITROGEN WAS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5077080" y="959400"/>
            <a:ext cx="397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bio200.nsm.buffalo.edu/labs/tutor/Star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rcRect l="0" t="10454" r="0" b="0"/>
          <a:stretch/>
        </p:blipFill>
        <p:spPr>
          <a:xfrm>
            <a:off x="0" y="838080"/>
            <a:ext cx="9144000" cy="60944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1422000" y="0"/>
            <a:ext cx="7048800" cy="91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TUBE FEET surfac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5077080" y="5943600"/>
            <a:ext cx="397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bio200.nsm.buffalo.edu/labs/tutor/Star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EYESP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09680" y="5943600"/>
            <a:ext cx="4114800" cy="9144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ense light/da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1066680" y="914400"/>
            <a:ext cx="6858000" cy="51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rcRect l="1663" t="4456" r="5003" b="6228"/>
          <a:stretch/>
        </p:blipFill>
        <p:spPr>
          <a:xfrm>
            <a:off x="0" y="0"/>
            <a:ext cx="9144000" cy="65311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365760" y="380880"/>
            <a:ext cx="2746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ORAL 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4677120" y="6583320"/>
            <a:ext cx="397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bio200.nsm.buffalo.edu/labs/tutor/Star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rcRect l="10000" t="0" r="4162" b="3704"/>
          <a:stretch/>
        </p:blipFill>
        <p:spPr>
          <a:xfrm>
            <a:off x="380880" y="-77760"/>
            <a:ext cx="8305920" cy="69357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4"/>
          <p:cNvSpPr/>
          <p:nvPr/>
        </p:nvSpPr>
        <p:spPr>
          <a:xfrm>
            <a:off x="5077080" y="6583320"/>
            <a:ext cx="397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bio200.nsm.buffalo.edu/labs/tutor/Star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457200" y="-380880"/>
            <a:ext cx="8229600" cy="69228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"/>
          <p:cNvSpPr/>
          <p:nvPr/>
        </p:nvSpPr>
        <p:spPr>
          <a:xfrm>
            <a:off x="5933520" y="6583320"/>
            <a:ext cx="310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ebiomedia.com/gall/skin/skin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773640" y="5638680"/>
            <a:ext cx="7377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 Bold"/>
                <a:ea typeface="Times New Roman Bold"/>
              </a:rPr>
              <a:t>Opening to water vascular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16680" y="0"/>
            <a:ext cx="5454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66"/>
                </a:solidFill>
                <a:latin typeface="Times New Roman Bold"/>
                <a:ea typeface="Times New Roman Bold"/>
              </a:rPr>
              <a:t>Madreporit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227160"/>
            <a:ext cx="891540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WATER VASCULAR SYSTE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4778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4"/>
          <p:cNvSpPr/>
          <p:nvPr/>
        </p:nvSpPr>
        <p:spPr>
          <a:xfrm>
            <a:off x="7689240" y="6095880"/>
            <a:ext cx="81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BIODID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458200" cy="56674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4"/>
          <p:cNvSpPr/>
          <p:nvPr/>
        </p:nvSpPr>
        <p:spPr>
          <a:xfrm>
            <a:off x="5043600" y="349920"/>
            <a:ext cx="3439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mbgnet.mobot.org/salt/animals/star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-3657600" y="479520"/>
            <a:ext cx="12395160" cy="543564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4"/>
          <p:cNvSpPr/>
          <p:nvPr/>
        </p:nvSpPr>
        <p:spPr>
          <a:xfrm>
            <a:off x="775440" y="6164280"/>
            <a:ext cx="1676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Kidspiration by Ried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32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MBULACRAL GROO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8960" y="6171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TUBE FEET sit in GROO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446120" y="990720"/>
            <a:ext cx="6021360" cy="51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1"/>
          <a:srcRect l="0" t="10454" r="0" b="0"/>
          <a:stretch/>
        </p:blipFill>
        <p:spPr>
          <a:xfrm>
            <a:off x="0" y="838080"/>
            <a:ext cx="9144000" cy="60944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"/>
          <p:cNvSpPr/>
          <p:nvPr/>
        </p:nvSpPr>
        <p:spPr>
          <a:xfrm>
            <a:off x="2133360" y="0"/>
            <a:ext cx="3846960" cy="91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TUBE FEE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143000" y="1295280"/>
            <a:ext cx="7010280" cy="1219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Used for feeding &amp; locomo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5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UT TRIVIUM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6629400" cy="49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3352680" y="228600"/>
            <a:ext cx="5181840" cy="4727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3962520" cy="3063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1212840" y="304920"/>
            <a:ext cx="6632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DIGESTIVE GLA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449960" y="5334120"/>
            <a:ext cx="42048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Makes B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BSORBS NUTR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838080" y="360360"/>
            <a:ext cx="7848720" cy="6497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4"/>
          <p:cNvSpPr/>
          <p:nvPr/>
        </p:nvSpPr>
        <p:spPr>
          <a:xfrm>
            <a:off x="-21600" y="45000"/>
            <a:ext cx="544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.k-state.edu/organismic/echinoderms_and_protochordate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2 part STOMA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629400" cy="50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5867280" cy="13716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DIGESTIVE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6400800" y="3886200"/>
            <a:ext cx="27432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9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DIGES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9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GL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380880" y="403848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9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DIGES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90000"/>
              </a:lnSpc>
              <a:spcBef>
                <a:spcPts val="18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GL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3677040" y="5029200"/>
            <a:ext cx="1592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M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803400" y="1295280"/>
            <a:ext cx="1172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228240" y="4419360"/>
            <a:ext cx="891540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 fontScale="95000"/>
          </a:bodyPr>
          <a:p>
            <a:pPr marL="363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ARDIAC stomach connects to mout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(extruded during feed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63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PYLORIC stomach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connects to digestive glands and AN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2498760" y="177840"/>
            <a:ext cx="4127400" cy="41911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3507480" y="198000"/>
            <a:ext cx="551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.k-state.edu/organismic/echinoderms_and_protochordates.ht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5027400" y="6445800"/>
            <a:ext cx="402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bio200.nsm.buffalo.edu/labs/tutor/Starfish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YM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DULTS- Rad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LARVA- Bilat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3376440" cy="4743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5791320" y="3886200"/>
            <a:ext cx="2367000" cy="190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204840" y="6293520"/>
            <a:ext cx="407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.uic.edu/classes/bios/bios100/labs/radial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240" y="43430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MBULACRAL RIDGE covered by OSS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ontains RADIAL NERVE (nervo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ヒラギノ明朝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ヒラギノ明朝 ProN W6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RADIAL CANAL (water vascular syste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228600" y="0"/>
            <a:ext cx="8915400" cy="4264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4746600" y="228600"/>
            <a:ext cx="402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bio200.nsm.buffalo.edu/labs/tutor/Starfish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MBULACRAL RIDG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6632640" y="2057400"/>
            <a:ext cx="18396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7391160" cy="575316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4"/>
          <p:cNvGrpSpPr/>
          <p:nvPr/>
        </p:nvGrpSpPr>
        <p:grpSpPr>
          <a:xfrm>
            <a:off x="838080" y="2057400"/>
            <a:ext cx="5867280" cy="558720"/>
            <a:chOff x="838080" y="2057400"/>
            <a:chExt cx="5867280" cy="558720"/>
          </a:xfrm>
        </p:grpSpPr>
        <p:sp>
          <p:nvSpPr>
            <p:cNvPr id="161" name="Rectangle 5"/>
            <p:cNvSpPr/>
            <p:nvPr/>
          </p:nvSpPr>
          <p:spPr>
            <a:xfrm>
              <a:off x="838080" y="2057400"/>
              <a:ext cx="5867280" cy="558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838080" y="2057400"/>
              <a:ext cx="5867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spcBef>
                  <a:spcPts val="18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 Bold"/>
                  <a:ea typeface="Times New Roman Bold"/>
                </a:rPr>
                <a:t>AMPULLAE (tops of  tube feet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OSSICLES</a:t>
            </a:r>
            <a:br>
              <a:rPr sz="6000"/>
            </a:b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alcium carbonate plat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81080" y="5473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form endoskeleton in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2133720" y="1930320"/>
            <a:ext cx="4876560" cy="34099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4"/>
          <p:cNvSpPr/>
          <p:nvPr/>
        </p:nvSpPr>
        <p:spPr>
          <a:xfrm>
            <a:off x="5138280" y="6324480"/>
            <a:ext cx="363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ebiomedia.com/prod/BOechinoderm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GONAD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547560" y="414360"/>
            <a:ext cx="8048880" cy="60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" descr=""/>
          <p:cNvPicPr/>
          <p:nvPr/>
        </p:nvPicPr>
        <p:blipFill>
          <a:blip r:embed="rId1"/>
          <a:stretch/>
        </p:blipFill>
        <p:spPr>
          <a:xfrm>
            <a:off x="1219320" y="277920"/>
            <a:ext cx="6692760" cy="62881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3331080" y="6445800"/>
            <a:ext cx="544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.k-state.edu/organismic/echinoderms_and_protochordates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NERVOUS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010280" cy="402264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3"/>
          <p:cNvSpPr/>
          <p:nvPr/>
        </p:nvSpPr>
        <p:spPr>
          <a:xfrm>
            <a:off x="2389680" y="1143000"/>
            <a:ext cx="39884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NERVE R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encircles mou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80360" y="5334120"/>
            <a:ext cx="82512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RADIAL NERVES run in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MBULACRAL RIDGE in each a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EPARATE SEX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90440" y="15998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GONADS-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reproductive orga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tarfish have bo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EXU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SEXUAL (Regeneratio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495360" y="304920"/>
            <a:ext cx="8153280" cy="62481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4"/>
          <p:cNvSpPr/>
          <p:nvPr/>
        </p:nvSpPr>
        <p:spPr>
          <a:xfrm>
            <a:off x="734400" y="274320"/>
            <a:ext cx="511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"/>
                <a:ea typeface="Arial"/>
              </a:rPr>
              <a:t>http://www.k-state.edu/organismic/echinoderms_and_protochordates.ht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" descr=""/>
          <p:cNvPicPr/>
          <p:nvPr/>
        </p:nvPicPr>
        <p:blipFill>
          <a:blip r:embed="rId1"/>
          <a:stretch/>
        </p:blipFill>
        <p:spPr>
          <a:xfrm>
            <a:off x="-457200" y="336600"/>
            <a:ext cx="7162920" cy="65214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81680" y="1447560"/>
            <a:ext cx="2362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DIGESTIV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G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6846480" y="2711520"/>
            <a:ext cx="174384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GON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832440" y="4057560"/>
            <a:ext cx="19069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OSS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1" descr=""/>
          <p:cNvPicPr/>
          <p:nvPr/>
        </p:nvPicPr>
        <p:blipFill>
          <a:blip r:embed="rId1"/>
          <a:srcRect l="8060" t="8015" r="11304" b="21927"/>
          <a:stretch/>
        </p:blipFill>
        <p:spPr>
          <a:xfrm>
            <a:off x="4952880" y="2895480"/>
            <a:ext cx="3810240" cy="26672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"/>
          <p:cNvSpPr/>
          <p:nvPr/>
        </p:nvSpPr>
        <p:spPr>
          <a:xfrm>
            <a:off x="934200" y="3505320"/>
            <a:ext cx="192672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LAR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736200" y="1219320"/>
            <a:ext cx="3683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FERTILIZ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5375520" y="1219320"/>
            <a:ext cx="27648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EXTER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5307480" y="1981080"/>
            <a:ext cx="28454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INDIREC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1101240" y="5724360"/>
            <a:ext cx="6661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Has BILATERAL SYMMETRY and wings to sw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7"/>
          <p:cNvSpPr/>
          <p:nvPr/>
        </p:nvSpPr>
        <p:spPr>
          <a:xfrm>
            <a:off x="837000" y="4419720"/>
            <a:ext cx="37126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BIPINNARI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776160" y="2009880"/>
            <a:ext cx="36975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DEVELO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9"/>
          <p:cNvSpPr/>
          <p:nvPr/>
        </p:nvSpPr>
        <p:spPr>
          <a:xfrm>
            <a:off x="2021400" y="317520"/>
            <a:ext cx="5369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58e28"/>
                </a:solidFill>
                <a:latin typeface="Times New Roman Bold"/>
                <a:ea typeface="Times New Roman Bold"/>
              </a:rPr>
              <a:t>SEXUAL REP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STARFISH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ヒラギノ明朝 ProN W6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ヒラギノ明朝 ProN W6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ヒラギノ明朝 ProN W6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ヒラギノ明朝 ProN W6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ヒラギノ明朝 ProN W6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ヒラギノ明朝 ProN W6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ヒラギノ明朝 ProN W6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LATIN m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KINGDOM  ___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PHYLUM 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LASS  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701800" y="2232000"/>
            <a:ext cx="251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ANIMA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42080" y="3456000"/>
            <a:ext cx="65505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ECHINODERMATA “spiny skin</a:t>
            </a:r>
            <a:r>
              <a:rPr b="0" lang="en-US" sz="44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1752480" y="4419720"/>
            <a:ext cx="7101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ASTEROIDEA       “star-lik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3907840" presetSubtype="358944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3907840" presetSubtype="358963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3907840" presetSubtype="3590724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16488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44fe"/>
                </a:solidFill>
                <a:latin typeface="Times New Roman Bold Italic"/>
                <a:ea typeface="Times New Roman Bold Italic"/>
              </a:rPr>
              <a:t>ASEXUAL REP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67080" y="1980720"/>
            <a:ext cx="4648320" cy="48769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91680" y="1625760"/>
            <a:ext cx="5046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bility to self amput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47040" y="3365640"/>
            <a:ext cx="576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Ability to regrow lost p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4009320" y="2514600"/>
            <a:ext cx="3441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AUTOTOM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045320" y="4457880"/>
            <a:ext cx="42613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 Bold"/>
                <a:ea typeface="Times New Roman Bold"/>
              </a:rPr>
              <a:t>RE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PI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PEDICELLAR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KIN G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0" t="0" r="0" b="14732"/>
          <a:stretch/>
        </p:blipFill>
        <p:spPr>
          <a:xfrm>
            <a:off x="609480" y="2722680"/>
            <a:ext cx="8229600" cy="352584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6477120" y="6324480"/>
            <a:ext cx="233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Image by Ried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PINY SKI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5029200"/>
            <a:ext cx="7848720" cy="1828800"/>
          </a:xfrm>
          <a:prstGeom prst="rect">
            <a:avLst/>
          </a:prstGeom>
          <a:noFill/>
          <a:ln w="0">
            <a:noFill/>
          </a:ln>
        </p:spPr>
        <p:txBody>
          <a:bodyPr lIns="50760" rIns="9000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 Bold"/>
              <a:ea typeface="ヒラギノ明朝 ProN W6"/>
            </a:endParaRPr>
          </a:p>
        </p:txBody>
      </p:sp>
      <p:grpSp>
        <p:nvGrpSpPr>
          <p:cNvPr id="61" name="Group 3"/>
          <p:cNvGrpSpPr/>
          <p:nvPr/>
        </p:nvGrpSpPr>
        <p:grpSpPr>
          <a:xfrm>
            <a:off x="0" y="901800"/>
            <a:ext cx="9144000" cy="5738760"/>
            <a:chOff x="0" y="901800"/>
            <a:chExt cx="9144000" cy="5738760"/>
          </a:xfrm>
        </p:grpSpPr>
        <p:sp>
          <p:nvSpPr>
            <p:cNvPr id="62" name="Rectangle 4"/>
            <p:cNvSpPr/>
            <p:nvPr/>
          </p:nvSpPr>
          <p:spPr>
            <a:xfrm>
              <a:off x="0" y="901800"/>
              <a:ext cx="9144000" cy="57387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901800"/>
              <a:ext cx="9144000" cy="573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6"/>
          <p:cNvSpPr/>
          <p:nvPr/>
        </p:nvSpPr>
        <p:spPr>
          <a:xfrm>
            <a:off x="800280" y="4724280"/>
            <a:ext cx="7534080" cy="1556280"/>
          </a:xfrm>
          <a:prstGeom prst="rect">
            <a:avLst/>
          </a:prstGeom>
          <a:solidFill>
            <a:srgbClr val="3333cc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 Bold"/>
                <a:ea typeface="Times New Roman Bold"/>
              </a:rPr>
              <a:t>SPINES for protection connect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00"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 Bold"/>
                <a:ea typeface="Times New Roman Bold"/>
              </a:rPr>
              <a:t>ENDOSKELETON inside underneath sk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5077080" y="959400"/>
            <a:ext cx="397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ctr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wwwbio200.nsm.buffalo.edu/labs/tutor/Starfi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OSSICLES</a:t>
            </a:r>
            <a:br>
              <a:rPr sz="6000"/>
            </a:b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Calcium carbonate plate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27280" y="543564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form endoskeleton ins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968480" y="1968480"/>
            <a:ext cx="4876920" cy="340992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5138280" y="6324480"/>
            <a:ext cx="363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http://ebiomedia.com/prod/BOechinoderm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240" y="3045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PI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PEDICELLAR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  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SKIN GI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rcRect l="0" t="0" r="0" b="14732"/>
          <a:stretch/>
        </p:blipFill>
        <p:spPr>
          <a:xfrm>
            <a:off x="609480" y="2722680"/>
            <a:ext cx="8229600" cy="3525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6477120" y="6324480"/>
            <a:ext cx="2336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ff"/>
                </a:solidFill>
                <a:latin typeface="Arial Bold"/>
                <a:ea typeface="Arial Bold"/>
              </a:rPr>
              <a:t>Image by Ried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ctr">
            <a:noAutofit/>
          </a:bodyPr>
          <a:p>
            <a:pPr marL="39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PEDICELLARIAE</a:t>
            </a:r>
            <a:br>
              <a:rPr sz="5400"/>
            </a:b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(</a:t>
            </a:r>
            <a:r>
              <a:rPr b="0" lang="en-US" sz="4400" spc="-1" strike="noStrike">
                <a:solidFill>
                  <a:srgbClr val="000000"/>
                </a:solidFill>
                <a:latin typeface="Times New Roman Bold Italic"/>
                <a:ea typeface="Times New Roman Bold Italic"/>
              </a:rPr>
              <a:t>sing.</a:t>
            </a:r>
            <a:r>
              <a:rPr b="0" lang="en-US" sz="44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 Pedicellari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58672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50760" rIns="81360" tIns="50760" bIns="50760" anchor="t">
            <a:normAutofit/>
          </a:bodyPr>
          <a:p>
            <a:pPr marL="382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 Bold"/>
                <a:ea typeface="Times New Roman Bold"/>
              </a:rPr>
              <a:t>Keep surface clear of organis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038400" cy="4114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3505320" y="1828800"/>
            <a:ext cx="5257800" cy="396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riedell</dc:creator>
  <dc:description/>
  <cp:keywords/>
  <dc:language>en-US</dc:language>
  <cp:lastModifiedBy>Jason Cobb</cp:lastModifiedBy>
  <dcterms:modified xsi:type="dcterms:W3CDTF">2012-05-07T02:19:18Z</dcterms:modified>
  <cp:revision>3</cp:revision>
  <dc:subject/>
  <dc:title>STARFISH  DISSECTION</dc:title>
</cp:coreProperties>
</file>